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76166-7096-4F0C-8B42-D80D6105E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F2964-6D3B-45A9-8F22-90427B9D7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87B3A-9733-4A2C-B1FB-963715F6F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49B1D-EA41-4940-BC96-04BBFCD08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A03B9-F79D-48A2-88A0-E3C97D4F9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00B2D-B5C5-40BE-AABF-137F77D77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227E7-65AA-4CFA-8FC3-6FC4CD3F1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FA71C-3732-4788-93A3-278450AA1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47F54-5C4E-40F8-A452-DEE1C33C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DFF70-13EA-4CAE-A06E-249BA316E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ACE36-8140-4E68-9C97-309E940D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817BA-113A-4EFE-88D8-22A02738D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0C17A-AE37-4CB9-B5D3-3FED044F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4CEF2-A0AA-4920-915F-AE681FDF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37551-B62C-41A7-9D73-8A245A35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706AA-3F93-4217-A236-414420D0E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D8AF8-3F9B-424F-B1B4-F146A25F9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D330A-D5F2-43AD-BCC0-339C60CC9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221F0-EBD1-4C4A-B880-C40E70879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2C15A-7AEB-41EE-B4F4-0006A61E1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E2B41-07FA-4067-9ED1-0FBA60E03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332AE-B016-4EF2-8626-A594969B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5C4B3-6AE1-436B-B4D2-97EFBABF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22FF8-80C6-49F1-A600-5E852E08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3CC70-8FBF-489B-9AEC-016A84D9CE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70B58-75D3-4F25-B477-2310A00FAD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thenewyorktimes.com/" TargetMode="External"/><Relationship Id="rId2" Type="http://schemas.openxmlformats.org/officeDocument/2006/relationships/hyperlink" Target="http://thenewyorktimes.com/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nytimes.com/" TargetMode="External"/><Relationship Id="rId2" Type="http://schemas.openxmlformats.org/officeDocument/2006/relationships/hyperlink" Target="http://www.nytimes.com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228600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300"/>
            </a:br>
            <a:br>
              <a:rPr sz="3300"/>
            </a:br>
            <a:br>
              <a:rPr sz="3300"/>
            </a:br>
            <a:r>
              <a:rPr b="1" lang="en-US" sz="3300" spc="-1" strike="noStrike">
                <a:solidFill>
                  <a:srgbClr val="33cccc"/>
                </a:solidFill>
                <a:latin typeface="Arial"/>
              </a:rPr>
              <a:t>Selecting an Effective Bilingual Instructional Model</a:t>
            </a: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2193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ff"/>
                </a:solidFill>
                <a:latin typeface="Arial"/>
              </a:rPr>
              <a:t>Ashley Mart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ff"/>
                </a:solidFill>
                <a:latin typeface="Arial"/>
              </a:rPr>
              <a:t>Education 7201:Seminar in Applied Theory and Research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ff"/>
                </a:solidFill>
                <a:latin typeface="Arial"/>
              </a:rPr>
              <a:t>Fall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124080" y="1828800"/>
            <a:ext cx="5257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e5e5"/>
                  </a:solidFill>
                  <a:miter/>
                </a:ln>
                <a:solidFill>
                  <a:srgbClr val="ff99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Verdana"/>
              </a:rPr>
              <a:t>Closing the Literacy</a:t>
            </a:r>
            <a:endParaRPr b="0" lang="en-US" sz="1800" spc="1" strike="noStrike">
              <a:ln w="15840">
                <a:solidFill>
                  <a:srgbClr val="00e5e5"/>
                </a:solidFill>
                <a:miter/>
              </a:ln>
              <a:solidFill>
                <a:srgbClr val="ff99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Verdana"/>
              <a:ea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e5e5"/>
                  </a:solidFill>
                  <a:miter/>
                </a:ln>
                <a:solidFill>
                  <a:srgbClr val="ff99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Verdana"/>
              </a:rPr>
              <a:t>Gap for ELLs</a:t>
            </a:r>
            <a:endParaRPr b="0" lang="en-US" sz="1800" spc="1" strike="noStrike">
              <a:ln w="15840">
                <a:solidFill>
                  <a:srgbClr val="00e5e5"/>
                </a:solidFill>
                <a:miter/>
              </a:ln>
              <a:solidFill>
                <a:srgbClr val="ff99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Verdana"/>
              <a:ea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00cc"/>
                </a:solidFill>
                <a:uFillTx/>
                <a:latin typeface="Arial"/>
              </a:rPr>
              <a:t>Bilingual Education Theor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Jim Cummins</a:t>
            </a:r>
            <a:br>
              <a:rPr sz="2800"/>
            </a:b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Bilingualism and special education: Programs and pedagogical issues (198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tudents must receive sufficient comprehensible input in the </a:t>
            </a:r>
            <a:r>
              <a:rPr b="0" lang="en-US" sz="2000" spc="-1" strike="noStrike">
                <a:solidFill>
                  <a:srgbClr val="ff33cc"/>
                </a:solidFill>
                <a:latin typeface="Arial"/>
              </a:rPr>
              <a:t>target language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cc00ff"/>
                </a:solidFill>
                <a:uFillTx/>
                <a:latin typeface="Arial"/>
              </a:rPr>
              <a:t>while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cc"/>
                </a:solidFill>
                <a:latin typeface="Arial"/>
              </a:rPr>
              <a:t>maintaining ties to the native languag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Ofelia Gar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Logisitical concerns - vary by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cc"/>
                </a:solidFill>
                <a:latin typeface="Arial"/>
              </a:rPr>
              <a:t>Teacher preparation, entrance and exit criteria, parental involvement, curriculum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495680" y="1752480"/>
            <a:ext cx="1981440" cy="1078200"/>
          </a:xfrm>
          <a:prstGeom prst="rect">
            <a:avLst/>
          </a:prstGeom>
          <a:ln w="19080">
            <a:solidFill>
              <a:srgbClr val="00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00cc"/>
                </a:solidFill>
                <a:uFillTx/>
                <a:latin typeface="Arial"/>
              </a:rPr>
              <a:t>Statement of 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HR¹: 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Use of </a:t>
            </a: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bilingual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small-group literacy instruction in English Classroom over an eight-week period will increase L2 proficiency of Spanish-speaking ELLs in the dual-language program 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(ECLAS-2, Fountas &amp; Pinnell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HR²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Bilingual small-group literacy instruction in English Classroom A will yield a greater literacy improvement for students compared to those instructed in English Classroom B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934320" y="685800"/>
            <a:ext cx="1666800" cy="1154160"/>
          </a:xfrm>
          <a:prstGeom prst="rect">
            <a:avLst/>
          </a:prstGeom>
          <a:ln w="28440">
            <a:solidFill>
              <a:srgbClr val="ff66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39680" y="456840"/>
            <a:ext cx="76471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600cc"/>
                </a:solidFill>
                <a:uFillTx/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84582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lo, M.S., August, D., McLaughlin, B., Snow, C. E., Dressler, C., Lippman, D., . . . White, C. E. (2004).  Closing the gap: Addressing the vocabulary needs of English language learners in bilingual and mainstream classrooms [Electronic Version]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eading Research Quarterly, 39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188-21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mbs, M. C., Evans, C., Fletcher, T., Parra, E., &amp; Jim</a:t>
            </a:r>
            <a:r>
              <a:rPr b="0" lang="fr-FR" sz="1200" spc="-1" strike="noStrike">
                <a:solidFill>
                  <a:srgbClr val="000000"/>
                </a:solidFill>
                <a:latin typeface="Lucida Grande"/>
              </a:rPr>
              <a:t>�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nez, A. (2005)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ingualism for the children :  Implementing a dual-language program in an English-only state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ducational Policy, 19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1-727.  doi:  10.1177/089590480527806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latta, B., Reese, M., &amp; Setzer, L. (2006).  Early literacy instruction in a dual-language (Spanish-English) kindergarten. 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ommunication Disorders Quarterly, 2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, 67-82.   doi:  10.1177/1525740106027002051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mmins, J. (1983).  Bilingualism and special education: Programs and pedagogical issues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Learning Disability Quarterly, 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4), Autumn, 373-386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an, L, Roseth, C. J., &amp; Hoffman, P.  (2010).  An experimental study comparing English-only and transitional bilingual education on Spanish-speaking preschoolers’ early literacy development. 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arly Childhood Research Quarterly, 2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, 207-217.  doi: 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10.1016/j.ecresq.2009.10.00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man, R. (2000).  Contextual challenges to dual-language education: A case study of a developing middle school program [Electronic Version]. 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nthropology &amp; Education Quarterly, 3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, 202-229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rcia, E. (2007).  Education comes in diverse shapes and forms for U.S. bilinguals. In J, Noel, (Ed.),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Multicultural Education, 2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ed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138-144.  New York: McGraw Hill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rcia, O. (2008).  Bilingual education in the 2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entury.  West Sussex, United Kingdom:  Wiley-Blackwell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rcia, O. (2005).  Positioning heritage languages in the United States [Electronic Version]. 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he Modern Language Journal, 89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4), 601-605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msley, G., Holm, A., &amp; Dodd, B. (2006).  Diverse but not different:  The lexical skills of two primary age bilingual groups in comparison to monolingual peers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ternational Journal of Bilingualism,1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4). 453-476. doi:  10.1177/1367006906010004040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loway, L. (2000, October 17).  Immersion promoted as alternative to bilingual instruction. 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he New York Tim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 Retrieved from </a:t>
            </a:r>
            <a:r>
              <a:rPr b="0" lang="en-US" sz="12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200" spc="-1" strike="noStrike" u="sng">
                <a:solidFill>
                  <a:srgbClr val="666699"/>
                </a:solidFill>
                <a:uFillTx/>
                <a:latin typeface="Times New Roman"/>
                <a:hlinkClick r:id="rId2"/>
              </a:rPr>
              <a:t>thenewyorktimes.co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nberger, N. H. (1998).  Language policy, language education, language rights:  Indigenous, immigrant and international perspectives [Electronic Version]. 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Language in Society, 2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4), 439-458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son, D. C. (2010).   The relationship between applied linguistic research and language policy for bilingual education [Electronic Version]. 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pplied Linguistics, 3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, 72-9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600cc"/>
                </a:solidFill>
                <a:uFillTx/>
                <a:latin typeface="Arial"/>
              </a:rPr>
              <a:t>References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e, J., &amp; Schallert, D. L. (1997).  The relative contribution of L2 language proficiency and L1 reading ability to L2 reading performance: A test of the threshold hypothesis in an EFL context [Electronic version]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ESOL Quarterly, 3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713-739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ung, C. B., Silverman, R., Nandakumar, R., Qian, X., &amp; Hines, S. (2010).  A comparison of difficulty levels of vocabulary in first grade basal readers for preschool dual language learners and monolingual English learners [Electronic Version]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American Education Research Journal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i:  10.3102/0002831210382890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lmer, D. (2010).  Race, power, and equity in a multiethnic urban elementary school with a dual-language </a:t>
            </a: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nd</a:t>
            </a: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rogram [Electronic Version]. 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nthropology and Education Quaterly, 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, 94-11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owski, K. (2004). Student Spanish use and investment in a dual language immersion classroom: Implications for second language acquisition and heritage language maintenance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he Modern Language Journal, 8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5-1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ada, P. (2007).  A comparative study of the writing achievement of fourth grade English language learners in a dual-language bilingual program and a transitional bilingual program in the lower Rio Grande Valley (Texas) [Electronic Version]. 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issertation Abstracts International Section A:  Humanities and Social Sciences, 6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4-A), 1310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vitch, D. (1997,  September 5).  First teach them English. 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he New York Times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rieved from: </a:t>
            </a:r>
            <a:r>
              <a:rPr b="0" lang="en-US" sz="12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200" spc="-1" strike="noStrike" u="sng">
                <a:solidFill>
                  <a:srgbClr val="666699"/>
                </a:solidFill>
                <a:uFillTx/>
                <a:latin typeface="Times New Roman"/>
                <a:hlinkClick r:id="rId2"/>
              </a:rPr>
              <a:t>www.nytime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ssell, C. (2002).  Dismantling bilingual education implementing English immersion: The California initiative. 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Public Policy Inst. of California, San Francisc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 ERIC Document Reproduction  Service No. ED467063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ssell, C. &amp; Baker, K. (1996).  The educational effectiveness of bilingual education [Electronic Version]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esearch in the Teaching of English, 3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,  7-7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avin, E., &amp; Cheung, A. (2005).   A synthesis of research on language of reading instruction for English language learners. 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eview of Educational Research, 7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.  Summer, 247-284. </a:t>
            </a: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doi: 10.3102/00346543075002247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ong, V., Lara-Alecio, R., Irby, B., Mathes, P., &amp; Kwok, O. M. (2008)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lerating early academia oral English development in transitional bilingual and structure English immersion programs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merican Educational Research Journal, 4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4), 1011-1044.       doi:  10.3102/0002831208320790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ugh, S., Linan-Thompson, S., Mathes, P. G., Cirino, P. T., Carlson, C. D., Pollard-Durodola, S. D., . . . Francis, D. J. (2006).  Effectiveness of Spanish intervention for first-grade English language learners at risk for reading difficulties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Journal of Learning Disabilities, 39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, 56-73.  doi:  10.1177/0022219406039001060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Winsler, A., Diaz, R., Espinoza, L., Rodriguez, J. (1999)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learning a second language does not mean losing the first: Bilingual language development in low-income, Spanish-speaking children attending bilingual preschool [Electronic version]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hild Development, 7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. 349-36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6600cc"/>
                </a:solidFill>
                <a:uFillTx/>
                <a:latin typeface="Arial"/>
              </a:rPr>
              <a:t>Table of Conte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6600cc"/>
                </a:solidFill>
                <a:latin typeface="Arial"/>
              </a:rPr>
              <a:t>Introduction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Statement of Problem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7d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00cc"/>
                </a:solidFill>
                <a:latin typeface="Arial"/>
              </a:rPr>
              <a:t>Slide 3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Review of Related Literature:</a:t>
            </a:r>
            <a:r>
              <a:rPr b="0" lang="en-US" sz="25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7d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00cc"/>
                </a:solidFill>
                <a:latin typeface="Arial"/>
              </a:rPr>
              <a:t>Slides  4, 5, 6, 7, 8, 9, 1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Statement of Hypothes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7d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00cc"/>
                </a:solidFill>
                <a:latin typeface="Arial"/>
              </a:rPr>
              <a:t>Slide 1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00cc"/>
                </a:solidFill>
                <a:latin typeface="Arial"/>
              </a:rPr>
              <a:t>Slides 12 &amp; 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791320" y="3733920"/>
            <a:ext cx="2514600" cy="23446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477120" y="4038480"/>
            <a:ext cx="16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99"/>
                </a:solidFill>
                <a:latin typeface="Arial"/>
              </a:rPr>
              <a:t>¡Hola!  Hello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6600cc"/>
                </a:solidFill>
                <a:uFillTx/>
                <a:latin typeface="Arial"/>
              </a:rPr>
              <a:t>Statement of Proble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cc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To instruct first-grade ELLs at PSX, the school has implemented a side-by-side dual-language setting that separates L1 and L2 literacy development by classroom. For Spanish-speaking students (L1), English proficiency (L2) is below expected levels according to ECLAS-2 results and Fountas &amp; Pinnell reading level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00cc"/>
                </a:solidFill>
                <a:uFillTx/>
                <a:latin typeface="Arial"/>
              </a:rPr>
              <a:t>What’s the Deba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6248160" cy="4130640"/>
          </a:xfrm>
          <a:prstGeom prst="rect">
            <a:avLst/>
          </a:prstGeom>
          <a:ln w="50760">
            <a:solidFill>
              <a:srgbClr val="33cccc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1439640" y="1560600"/>
            <a:ext cx="603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99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6699"/>
                </a:solidFill>
                <a:latin typeface="Arial"/>
              </a:rPr>
              <a:t>Reversing the Bilingual Education Act (1968) with NCL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00cc"/>
                </a:solidFill>
                <a:uFillTx/>
                <a:latin typeface="Arial"/>
              </a:rPr>
              <a:t>Native Language Sup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Times New Roman"/>
              </a:rPr>
              <a:t>Research confirms significance of native language maintenance as </a:t>
            </a:r>
            <a:r>
              <a:rPr b="0" lang="en-US" sz="3600" spc="-1" strike="noStrike">
                <a:solidFill>
                  <a:srgbClr val="ff6699"/>
                </a:solidFill>
                <a:latin typeface="Times New Roman"/>
              </a:rPr>
              <a:t>predictor of future L2 proficiency</a:t>
            </a:r>
            <a:r>
              <a:rPr b="0" lang="en-US" sz="3600" spc="-1" strike="noStrike">
                <a:solidFill>
                  <a:srgbClr val="009999"/>
                </a:solidFill>
                <a:latin typeface="Times New Roman"/>
              </a:rPr>
              <a:t> as well as a powerful tool to assist in the </a:t>
            </a:r>
            <a:r>
              <a:rPr b="0" lang="en-US" sz="3600" spc="-1" strike="noStrike">
                <a:solidFill>
                  <a:srgbClr val="ff6699"/>
                </a:solidFill>
                <a:latin typeface="Times New Roman"/>
              </a:rPr>
              <a:t>transfer of literacy knowledge</a:t>
            </a:r>
            <a:r>
              <a:rPr b="0" lang="en-US" sz="3600" spc="-1" strike="noStrike">
                <a:solidFill>
                  <a:srgbClr val="009999"/>
                </a:solidFill>
                <a:latin typeface="Times New Roman"/>
              </a:rPr>
              <a:t> from one language to the next.</a:t>
            </a:r>
            <a:br>
              <a:rPr sz="2800"/>
            </a:b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(Carlo et al., 2004; Culatta, Reese &amp; Setzer, 2006; Lee &amp; Schallert, 1997; Potowski, 2004; Quesada, 2007; Vaughn et al., 2006).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00cc"/>
                </a:solidFill>
                <a:uFillTx/>
                <a:latin typeface="Arial"/>
              </a:rPr>
              <a:t>Native Language Sup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Literacy skills that are significant predictors of later reading success and response to instruction are similar for English and Spanish, and include skills for phonological processing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    (Lee &amp; Schallert, 2006; Vaughn et al., 2006)</a:t>
            </a:r>
            <a:br>
              <a:rPr sz="2800"/>
            </a:b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Texas ELA test scores higher for ELLs in bilingual models than immersion models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    (Quesada, 200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600cc"/>
                </a:solidFill>
                <a:uFillTx/>
                <a:latin typeface="Arial"/>
              </a:rPr>
              <a:t>English Immersion Programs</a:t>
            </a:r>
            <a:br>
              <a:rPr sz="4000"/>
            </a:br>
            <a:r>
              <a:rPr b="0" lang="en-US" sz="2000" spc="-1" strike="noStrike">
                <a:solidFill>
                  <a:srgbClr val="6600cc"/>
                </a:solidFill>
                <a:latin typeface="Arial"/>
              </a:rPr>
              <a:t>L2 replaces L1; No native language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  <a:ea typeface="굴림"/>
              </a:rPr>
              <a:t>Research confirms English-only immersion models as most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  <a:ea typeface="굴림"/>
              </a:rPr>
              <a:t>(Garcia, E., 2007; Helmsley, Holm &amp; Dodd, 2006; Leung et al., 2010; Rossell &amp; Baker, 1996; Winsler et al., 2006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9999"/>
                </a:solidFill>
                <a:latin typeface="Arial"/>
                <a:ea typeface="굴림"/>
              </a:rPr>
              <a:t>States with recent policy changes:  California, Arizona, Georgia, and Massachusett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600cc"/>
                </a:solidFill>
                <a:uFillTx/>
                <a:latin typeface="Arial"/>
              </a:rPr>
              <a:t>English Immersion Programs</a:t>
            </a:r>
            <a:br>
              <a:rPr sz="4000"/>
            </a:br>
            <a:r>
              <a:rPr b="0" lang="en-US" sz="2000" spc="-1" strike="noStrike">
                <a:solidFill>
                  <a:srgbClr val="6600cc"/>
                </a:solidFill>
                <a:latin typeface="Arial"/>
              </a:rPr>
              <a:t>L2 replaces L1; No native language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ynthesis of resear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300 studies were examined to analyze and quantify effectiveness of bilingual education model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Just 22% of studies suggested bilingual education model effectiveness over immersion model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(Rossell &amp; Baker, 199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600cc"/>
                </a:solidFill>
                <a:uFillTx/>
                <a:latin typeface="Arial"/>
              </a:rPr>
              <a:t>Additional Synthesis of Resea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Synthesis conducted recently; findings were rever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ilingual instructional models favored over those that eliminated native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17 studies, mostly Spanish-speaking, and covered a wide variety of bilingual models (Transitional, Two-Way, Dual Langu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(Slavin &amp; Cheung, 2005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Illustrates the need for further research to reach conclusions as to effectiveness of progra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20:42:33Z</dcterms:created>
  <dc:creator>Bill Ramakkan</dc:creator>
  <dc:description/>
  <dc:language>en-US</dc:language>
  <cp:lastModifiedBy> </cp:lastModifiedBy>
  <dcterms:modified xsi:type="dcterms:W3CDTF">2010-11-30T13:32:47Z</dcterms:modified>
  <cp:revision>29</cp:revision>
  <dc:subject/>
  <dc:title>Helping Our ELL Students Succeed: Finding the Right Setting</dc:title>
</cp:coreProperties>
</file>